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170-77AD-455A-9A3D-3641057B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01B-E114-4F46-89C2-91205362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718-3724-4560-93A4-B30B4C29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D20-3944-497F-9139-C674C18D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1FD-9B08-4565-8073-2E766D3B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7A6-8D98-4679-A9B5-9B1BFEF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CAB-18C0-4274-B2D0-7D42BF47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2D9-767F-4E39-848A-31BA47E4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68F-CC9C-4D3E-B56B-498E104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B5B-E224-4174-B904-A807978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166-FFF0-41FC-8051-3E7149D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F1B-97A4-4261-A2B0-D89BDBE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511-344D-4321-9094-DAB10CBC0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affect of elements dissolving on the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: Monica, Kristin, and Sa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00"/>
            </a:gs>
            <a:gs pos="100000">
              <a:srgbClr val="00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pose and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if dissolving a solute affects the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erature would decrease as the amount of solute increased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Variable, Levels, and Dependent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pendent variable is the amount of sodium chloride (g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pendent variable is the temper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09680" y="3276720"/>
          <a:ext cx="4038480" cy="1295280"/>
        </p:xfrm>
        <a:graphic>
          <a:graphicData uri="http://schemas.openxmlformats.org/drawingml/2006/table">
            <a:tbl>
              <a:tblPr/>
              <a:tblGrid>
                <a:gridCol w="685800"/>
                <a:gridCol w="660240"/>
                <a:gridCol w="673200"/>
                <a:gridCol w="673200"/>
                <a:gridCol w="672840"/>
                <a:gridCol w="673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 and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amount of water (50 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Styrofoam 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type of solute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temperature sens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50 mL of water, put it into a Styrofoam c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tarting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1 gram of NaCI and add it to the c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temperature after 1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hange in temper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eps 1-5 using 2 grams, 3 grams, 4 grams and 5 gra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eps 1-5 using measurement increments of .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with N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odium_chloride_2.JPG"/>
          <p:cNvPicPr/>
          <p:nvPr/>
        </p:nvPicPr>
        <p:blipFill>
          <a:blip r:embed="rId2"/>
          <a:stretch/>
        </p:blipFill>
        <p:spPr>
          <a:xfrm>
            <a:off x="152280" y="1219320"/>
            <a:ext cx="88394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sults with C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ore Sodium Chloride was added, the temperature of the solution decrea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ore Calcium Chloride was added, the temperature of the solution increa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for sodium chloride was -.28</a:t>
            </a:r>
            <a:r>
              <a:rPr b="0" lang="en-US" sz="24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/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for calcium chloride was-+2.8</a:t>
            </a:r>
            <a:r>
              <a:rPr b="0" lang="en-US" sz="2400" spc="-1" strike="noStrike" baseline="54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this happen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When the salt dissolves in water, all bonds break. ~Sodium Chloride bond breaks and becomes sodium and Chloride 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Water molecules that were attracted to each other break ap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Sodium and Chloride Ion are attracted to the water, and create a new b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Energy is absorbed and energy is released.  We can measure the chemical energy, by taking the temper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Chemicals absorb energy; endothermic change: decrease in temper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Chemicals lose energy; exothermic change:  increase in temper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29:47Z</dcterms:created>
  <dc:creator>default</dc:creator>
  <dc:description/>
  <dc:language>en-US</dc:language>
  <cp:lastModifiedBy>default</cp:lastModifiedBy>
  <dcterms:modified xsi:type="dcterms:W3CDTF">2008-03-11T16:26:23Z</dcterms:modified>
  <cp:revision>4</cp:revision>
  <dc:subject/>
  <dc:title>The affect of elements dissolving on the temperature</dc:title>
</cp:coreProperties>
</file>